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5.png" ContentType="image/png"/>
  <Override PartName="/ppt/media/image40.png" ContentType="image/png"/>
  <Override PartName="/ppt/media/image11.jpeg" ContentType="image/jpeg"/>
  <Override PartName="/ppt/media/image9.jpeg" ContentType="image/jpeg"/>
  <Override PartName="/ppt/media/image30.png" ContentType="image/png"/>
  <Override PartName="/ppt/media/image37.jpeg" ContentType="image/jpeg"/>
  <Override PartName="/ppt/media/image13.png" ContentType="image/png"/>
  <Override PartName="/ppt/media/image5.jpeg" ContentType="image/jpeg"/>
  <Override PartName="/ppt/media/image50.png" ContentType="image/png"/>
  <Override PartName="/ppt/media/image42.png" ContentType="image/png"/>
  <Override PartName="/ppt/media/image28.png" ContentType="image/png"/>
  <Override PartName="/ppt/media/image38.jpeg" ContentType="image/jpeg"/>
  <Override PartName="/ppt/media/image44.jpeg" ContentType="image/jpeg"/>
  <Override PartName="/ppt/media/image45.png" ContentType="image/png"/>
  <Override PartName="/ppt/media/image46.png" ContentType="image/png"/>
  <Override PartName="/ppt/media/image43.png" ContentType="image/png"/>
  <Override PartName="/ppt/media/image47.jpeg" ContentType="image/jpeg"/>
  <Override PartName="/ppt/media/image4.png" ContentType="image/png"/>
  <Override PartName="/ppt/media/image41.png" ContentType="image/png"/>
  <Override PartName="/ppt/media/image48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39.png" ContentType="image/png"/>
  <Override PartName="/ppt/media/image22.jpeg" ContentType="image/jpeg"/>
  <Override PartName="/ppt/media/image6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AutoShape 1"/>
          <p:cNvSpPr/>
          <p:nvPr/>
        </p:nvSpPr>
        <p:spPr>
          <a:xfrm>
            <a:off x="0" y="0"/>
            <a:ext cx="7102440" cy="1023444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25">
                <a:moveTo>
                  <a:pt x="4" y="0"/>
                </a:moveTo>
                <a:arcTo wR="4" hR="4" stAng="16200000" swAng="-5400000"/>
                <a:lnTo>
                  <a:pt x="0" y="31121"/>
                </a:lnTo>
                <a:arcTo wR="4" hR="4" stAng="10800000" swAng="-5400000"/>
                <a:lnTo>
                  <a:pt x="21596" y="3112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2"/>
          <p:cNvSpPr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dt" idx="25"/>
          </p:nvPr>
        </p:nvSpPr>
        <p:spPr>
          <a:xfrm>
            <a:off x="402444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ldImg"/>
          </p:nvPr>
        </p:nvSpPr>
        <p:spPr>
          <a:xfrm>
            <a:off x="995040" y="768240"/>
            <a:ext cx="5111640" cy="3835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152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6"/>
          <p:cNvSpPr/>
          <p:nvPr/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sldNum" idx="26"/>
          </p:nvPr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2A433-466A-4A21-B1F1-C080C7DEE222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AFB3C7-7140-49B3-B183-158646B5685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esentation slide for courses, classes, lectures et 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458710-07BD-4443-94A4-2AEFE1931D5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C731DA-0746-4C53-8774-A386963954C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CC2983-4C69-4341-841A-03DBB52354A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EC26A4-7C2D-4AF2-B408-8E39E5A5696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1F7C72-B597-47AE-8723-1789561A7D7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29F367-F99C-45AA-90CA-582DF7387BC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B5ABE3-CE2F-4F4A-8444-E49C6EB1C87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210AD0-0225-49A4-ACFD-6CCF61DD307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B83BB4-47CA-4FFE-894C-00F725D5E78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8B2228-7F39-4CE9-82F8-1ECF247BA8A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3C34BC-282B-44E3-B5FF-4CB0A139415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148860-B0FC-4CFB-AE68-76E5B7F6ACA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B25943-22FA-43D9-A1A4-5B8A0D4D035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37C433-E646-4D80-9772-4C15EF281CF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777E6-5A07-4296-A764-80E06FC785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EBA4D-E4B4-4E6F-A47D-6712C083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78B00-E2EB-4D92-8924-0841CD34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93E30-F543-45CF-9832-340DCAF0B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BE08E-E6F3-41E7-86A7-DBA6ABBD0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1D920-F50C-4C7D-933D-9953E0A0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51675-128F-4647-A0FF-175DE9EF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B60F5-2746-4B0B-AAE0-B6882A25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7DAB3-2AF9-4D72-BFFF-29891D38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5B4A0-715B-4105-A2C9-EC604185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09ABB-89FA-41C5-A51F-FED30CF6CD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FF6655-03C1-4A09-83B4-89FD9B7DA3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5F7C9-4070-4038-8396-BBEB4D88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E2B2E1-5835-4613-941E-F27A0BB2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E76083-0426-4D2A-A93C-231F1A7A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A8070F-628C-4AA1-A52B-2FF49E4E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D02D83-CF7E-4CF7-826E-6F21AC3C1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31462D-C55A-42C4-A41C-3C8492D14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D74726-B0A3-40FB-AFC8-027232ED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2BABA5-D44B-4459-A1A1-ABB20002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957D8D-2BC9-4A64-895E-88064CB6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498D89-3074-4724-BD29-E51D1AA7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E79D37-CECE-492E-B57F-A8150A1A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BB482-6531-4CFE-BEA1-894BE13EB5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50BE0D-8F16-49E7-AA40-CDA577528F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276EA2-86EC-4010-8AE6-2424B2DDE8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066A74-748B-411D-9B58-6D89C7C2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4E7408-004F-438F-BA79-96AF31FE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C07789-C45A-4259-A9AD-89913FEB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C9372F-3692-420D-9DAD-E6B21DDDA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BB1B26-9010-456C-887D-584BBC169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B21C4B-7F10-4E44-8C85-EAA3FE25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640D08-93F4-4DCE-BEEB-C7E67B76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A7678D-97D5-4F51-8918-12B85C14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E5BD3A-AC7D-4A18-B11B-B5D25C78A2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8E870F-D0E8-490D-81EC-D4766199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79686D-05AA-47DE-A598-45006FB8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760253-BB67-45D8-9937-47BD2DD6E3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A664B-E59A-470C-842C-8181CC55F3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7D0A1-15C8-4D90-997D-6CC4ADF8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1BBC8-0F2C-42A3-8C30-6F3311CB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0916B-CA64-4C10-958C-F36BFB2D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79DDA-9B6D-4908-A27F-94CD8E044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E5CC7-3EF5-42EC-8F85-11AB46E51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1C605-B6CB-44FE-BAF3-E439BD01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E08F44-B288-48DA-8AFF-188ECC4A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D05E3-3228-4D2B-B30B-4271C326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F5D65-13B2-4533-A639-FCAB3D18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54360-713C-418D-8C90-52CED142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1967E-6F07-4211-BE47-C438095C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19DF6-49A1-4352-8D93-DB1E89F638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512829-264C-4BA1-B8F0-075E54D8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D0188F-A6BE-49AA-9F64-B268C9EE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4E522E-31D8-45C3-9C90-A337CBC96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6269ED-29CA-4DE9-908B-98FFD1BC8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462FD0-21BD-481F-91AE-50D9B0DB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4AE26-B395-46A5-8168-6D49C4A2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22EE1A-12FB-4D1E-932B-2FBB45E4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3062EC-AC06-4A00-83B6-B8F2D226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94A88F-A2FD-411C-9CAA-F1AF8106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6B8B7-227D-4EB8-8D9F-9FF3BC0F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7E0F8F-08D1-4A15-A3F9-9E82C47432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1F0C-15F6-499E-8883-9E5445311F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C376-EEBB-4722-ADB8-25273D1D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8D509-0965-405C-A8AA-FF5C0354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720B-EA8E-45EE-8EAF-E5D5B813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20DA-E09B-482D-B4C9-DEF6C534C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C86C8-413B-4F27-84EE-0C64CBF5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7DF7-42EE-4B28-B5B9-B1FE94123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70874-FDE6-4A48-860B-13931034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DDF7-93D3-41CF-98EE-3601C9D6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2400-49A0-457A-BC82-626D82C5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95C2-A04E-4F22-BE30-89AFE5F7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B536-C8DB-4139-9AC2-6472440E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A67B-0240-491B-A9B1-5DF0B617DB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5AAEFF-610C-4429-A409-11C7E8A748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C9A3C3-2CAA-4B09-9610-DD328D02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771588-2132-41D3-9E0D-3B09A4F5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5DCDA-0404-4B96-B711-7A888DB5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D8F50D-12A6-4C52-A490-5CA08B7F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E555AC-56A4-483D-882D-446D1401F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EC413F-491E-42D4-86CB-A77C79ED9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4F5C00-F65C-4714-9FBE-11BC8B7E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317029-CC36-42D6-A36F-F0069E22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2EF36C-AF8F-4B1B-AEAB-EFF10BEB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BE44D4-21A1-4657-BD8A-0769C6F1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B2B1D7-44E0-40B6-A423-23C80B23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3D4124-0EC0-4F40-8F66-918E5A81A6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9D50FD-BDE9-4928-A01C-260F304243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73AB2-1EDF-474C-9B33-A1D405944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B8FB90-F0F3-4812-B298-D23F3A64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FE86E1-F666-4A95-B6D9-2D1D6298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266952-CC88-4CE4-A42D-BC95E3011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001F39-4C6D-4049-847F-31A47682A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1B84A9-8ECF-4432-8FC1-3A605860F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0AFCA2-E623-498B-B661-275C59FB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829180-C66E-45F3-9095-2B9CE5FF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426816-A38D-415A-9AA5-9BD237B8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A1EF2E-C4C8-4FAF-AAEC-F441987C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648E3C-FE8B-4F0A-8AB2-39BF882A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CB628-F5F9-4227-81CC-FDDCA74BB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33C3AA-9A69-4FEB-A6A5-8FBCF70858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C43DB-44AA-412A-B6A9-45B3F004B6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C6CEA-748A-4553-B5EC-14B34918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5D091-FE42-4C21-B1A7-EA60B45A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2B5EE-35F1-42B6-93CE-53B297B8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6AD82-4574-421D-B313-6854226FA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3A1FF-C5CF-490C-B48F-5495AAA1A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8BCD8-013D-4927-A853-95F411BB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63802-4A9E-4887-BB0A-A5A4A212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74B80-4B30-448B-9867-FC9B2F51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E9320-0B1E-4129-8DC1-BA202E40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F70A2-2EA7-462E-B7E6-982393A7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71817-11E2-4709-A516-9BCD844E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91E1D-4536-47C9-9CA4-3E074266D4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9E6E52-C9AE-4D04-A7E9-68ED0E7DB0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561CA4-34F3-405E-91F7-DEA618FB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FFEB37-5D99-46D0-8E3C-6EA71B93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627918-F969-43C9-B064-C104A9DF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CE1773-5EC9-4C79-9EE2-91E18D28F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A4C0EC-D400-43C9-A27D-8253DE717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9FCA6F-58F9-47F0-BD74-2A549A39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48945-DD28-4E77-B16B-5250FDCA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2985B4-4D15-4764-8D75-FC911001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7AB928-273E-4F24-92DF-D87C805D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4860E9-10ED-46B8-A31B-05E2EF52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451DEF-6102-49C6-BE8E-EEA15545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B90369-C68A-4361-B3C5-ACA874830A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364F03-D150-4885-9E62-F742443711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932C28-E42E-46A1-94D3-128F27B1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672948-FD08-4F98-8FE1-69FA82A9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3DC87B-4FFD-4DFE-87BF-48099B13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CF4CA4-DB10-480E-B526-7C656A3F1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18BED-87A9-4E49-9293-D6C74D19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504465-C750-470D-9370-4392C1D8A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3FB4B0-6692-4AB5-B65E-E8CD5190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99D052-2821-4A57-ADD6-CAC3755C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D26CDD-5D5A-4BE8-9B7C-A9A08921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90CAE2-EC38-4468-9D62-FF26423D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EFC0E2-A62F-467A-8D2D-D43E469D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B84B6D-BB61-4E97-B988-320BFD8731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C84A7-6A5B-4091-BC05-1A9A21A1C0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E0D47-E155-4264-AD0C-C79F0511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AC9D8-488E-4EC8-A0EF-44D5AD10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880" y="6246360"/>
            <a:ext cx="26654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01/30/13 09: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609480" y="6246720"/>
            <a:ext cx="542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-360" y="1209240"/>
            <a:ext cx="5317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44A84A-70B3-44A5-86AE-8061F10119DE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19"/>
          </p:nvPr>
        </p:nvSpPr>
        <p:spPr>
          <a:xfrm>
            <a:off x="624852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sldNum" idx="20"/>
          </p:nvPr>
        </p:nvSpPr>
        <p:spPr>
          <a:xfrm>
            <a:off x="-360" y="4667400"/>
            <a:ext cx="14461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185BAD-9751-4D4F-84E8-82C9043C6E95}" type="slidenum">
              <a:rPr b="1" lang="en-US" sz="28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9"/>
          <p:cNvSpPr/>
          <p:nvPr/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21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sldNum" idx="22"/>
          </p:nvPr>
        </p:nvSpPr>
        <p:spPr>
          <a:xfrm>
            <a:off x="-360" y="1238040"/>
            <a:ext cx="531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332E05-2318-4F3A-9293-8F1A036A95A6}" type="slidenum">
              <a:rPr b="1" lang="en-US" sz="12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2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23"/>
          </p:nvPr>
        </p:nvSpPr>
        <p:spPr>
          <a:xfrm>
            <a:off x="6553080" y="6248160"/>
            <a:ext cx="22082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45720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sldNum" idx="24"/>
          </p:nvPr>
        </p:nvSpPr>
        <p:spPr>
          <a:xfrm>
            <a:off x="6410160" y="-360"/>
            <a:ext cx="53208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F07D40-CC61-450A-81C7-8276C44EC78B}" type="slidenum">
              <a:rPr b="1" lang="en-US" sz="12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76320" y="6068520"/>
            <a:ext cx="2055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  <a:ea typeface="Arial"/>
              </a:rPr>
              <a:t>01/30/13 09: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4"/>
          </p:nvPr>
        </p:nvSpPr>
        <p:spPr>
          <a:xfrm>
            <a:off x="8001000" y="228600"/>
            <a:ext cx="8366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6137EC-3F20-4CCA-AC11-A779BAD4F35C}" type="slidenum">
              <a:rPr b="1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6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EAA149-DDB2-4E1E-AFA2-948E3D83DD94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38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3D6636-E797-442A-B3AC-7270A27176D2}" type="slidenum">
              <a:rPr b="1" lang="en-US" sz="2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9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0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D33954-5D8C-44F0-9BFD-802D7A2FF9E1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1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2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8335E1-9F75-4718-862F-3CDD8A1C97CC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4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53E401-9B4E-4451-ADFA-5BBBAA93F036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6"/>
          </p:nvPr>
        </p:nvSpPr>
        <p:spPr>
          <a:xfrm>
            <a:off x="-360" y="6248520"/>
            <a:ext cx="5317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99B82C-429F-427A-969C-D5F43DF8584E}" type="slidenum">
              <a:rPr b="1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3"/>
          <a:stretch/>
        </p:blipFill>
        <p:spPr>
          <a:xfrm>
            <a:off x="612720" y="1755720"/>
            <a:ext cx="1614600" cy="168912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17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sldNum" idx="18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5706BA-38F3-4F05-915A-422336900731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5.jpe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jpe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image" Target="../media/image34.jpeg"/><Relationship Id="rId18" Type="http://schemas.openxmlformats.org/officeDocument/2006/relationships/image" Target="../media/image35.png"/><Relationship Id="rId19" Type="http://schemas.openxmlformats.org/officeDocument/2006/relationships/image" Target="../media/image36.jpeg"/><Relationship Id="rId20" Type="http://schemas.openxmlformats.org/officeDocument/2006/relationships/image" Target="../media/image37.jpeg"/><Relationship Id="rId21" Type="http://schemas.openxmlformats.org/officeDocument/2006/relationships/image" Target="../media/image38.jpeg"/><Relationship Id="rId22" Type="http://schemas.openxmlformats.org/officeDocument/2006/relationships/image" Target="../media/image39.png"/><Relationship Id="rId23" Type="http://schemas.openxmlformats.org/officeDocument/2006/relationships/image" Target="../media/image40.png"/><Relationship Id="rId24" Type="http://schemas.openxmlformats.org/officeDocument/2006/relationships/image" Target="../media/image41.png"/><Relationship Id="rId25" Type="http://schemas.openxmlformats.org/officeDocument/2006/relationships/image" Target="../media/image42.png"/><Relationship Id="rId26" Type="http://schemas.openxmlformats.org/officeDocument/2006/relationships/image" Target="../media/image43.png"/><Relationship Id="rId27" Type="http://schemas.openxmlformats.org/officeDocument/2006/relationships/image" Target="../media/image44.jpeg"/><Relationship Id="rId28" Type="http://schemas.openxmlformats.org/officeDocument/2006/relationships/image" Target="../media/image45.png"/><Relationship Id="rId29" Type="http://schemas.openxmlformats.org/officeDocument/2006/relationships/image" Target="../media/image46.png"/><Relationship Id="rId30" Type="http://schemas.openxmlformats.org/officeDocument/2006/relationships/image" Target="../media/image47.jpeg"/><Relationship Id="rId31" Type="http://schemas.openxmlformats.org/officeDocument/2006/relationships/image" Target="../media/image48.jpeg"/><Relationship Id="rId32" Type="http://schemas.openxmlformats.org/officeDocument/2006/relationships/image" Target="../media/image49.png"/><Relationship Id="rId33" Type="http://schemas.openxmlformats.org/officeDocument/2006/relationships/image" Target="../media/image50.png"/><Relationship Id="rId34" Type="http://schemas.openxmlformats.org/officeDocument/2006/relationships/slideLayout" Target="../slideLayouts/slideLayout85.xml"/><Relationship Id="rId3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1"/>
          <p:cNvSpPr/>
          <p:nvPr/>
        </p:nvSpPr>
        <p:spPr>
          <a:xfrm>
            <a:off x="2193840" y="298440"/>
            <a:ext cx="64771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4000"/>
            </a:br>
            <a:br>
              <a:rPr sz="4000"/>
            </a:br>
            <a:r>
              <a:rPr b="1" lang="ro-RO" sz="3200" spc="-1" strike="noStrike">
                <a:solidFill>
                  <a:srgbClr val="70215f"/>
                </a:solidFill>
                <a:latin typeface="Open Sans"/>
                <a:ea typeface="Open Sans"/>
              </a:rPr>
              <a:t>Asociaţia  </a:t>
            </a:r>
            <a:r>
              <a:rPr b="1" lang="en-US" sz="3200" spc="-1" strike="noStrike">
                <a:solidFill>
                  <a:srgbClr val="70215f"/>
                </a:solidFill>
                <a:latin typeface="Open Sans"/>
                <a:ea typeface="Open Sans"/>
              </a:rPr>
              <a:t>Shakespeare School</a:t>
            </a:r>
            <a:r>
              <a:rPr b="1" lang="ro-RO" sz="3200" spc="-1" strike="noStrike">
                <a:solidFill>
                  <a:srgbClr val="70215f"/>
                </a:solidFill>
                <a:latin typeface="Open Sans"/>
                <a:ea typeface="Open Sans"/>
              </a:rPr>
              <a:t> pentru Educaţ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5000" spc="-1" strike="noStrike">
                <a:solidFill>
                  <a:srgbClr val="5d6967"/>
                </a:solidFill>
                <a:latin typeface="Harlow Solid Italic"/>
              </a:rPr>
              <a:t>Essay Competitio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2"/>
          <p:cNvSpPr/>
          <p:nvPr/>
        </p:nvSpPr>
        <p:spPr>
          <a:xfrm>
            <a:off x="228600" y="395280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7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18960"/>
                <a:tab algn="l" pos="1233360"/>
                <a:tab algn="l" pos="2147760"/>
                <a:tab algn="l" pos="3062160"/>
                <a:tab algn="l" pos="3976560"/>
                <a:tab algn="l" pos="4890960"/>
                <a:tab algn="l" pos="5805360"/>
                <a:tab algn="l" pos="6719760"/>
                <a:tab algn="l" pos="7634160"/>
                <a:tab algn="l" pos="8548560"/>
                <a:tab algn="l" pos="9462960"/>
                <a:tab algn="l" pos="1037736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Concurs national de creatie in limba englez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380880" y="62485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201</a:t>
            </a:r>
            <a:r>
              <a:rPr b="0" lang="ro-RO" sz="2000" spc="-1" strike="noStrike">
                <a:solidFill>
                  <a:srgbClr val="ffffff"/>
                </a:solidFill>
                <a:latin typeface="Century Schoolboo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3527280" y="3429000"/>
            <a:ext cx="302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o-RO" sz="2200" spc="-1" strike="noStrike">
                <a:solidFill>
                  <a:srgbClr val="5d6967"/>
                </a:solidFill>
                <a:latin typeface="Open Sans"/>
              </a:rPr>
              <a:t>  </a:t>
            </a:r>
            <a:r>
              <a:rPr b="1" i="1" lang="ro-RO" sz="2200" spc="-1" strike="noStrike">
                <a:solidFill>
                  <a:srgbClr val="5d6967"/>
                </a:solidFill>
                <a:latin typeface="Open Sans"/>
              </a:rPr>
              <a:t>Februarie - Mai 201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152280" y="4495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1300" spc="-1" strike="noStrike">
                <a:solidFill>
                  <a:srgbClr val="5d6967"/>
                </a:solidFill>
                <a:latin typeface="Open Sans"/>
              </a:rPr>
              <a:t>Proiect inclus in Calendarul Activitatilor Educative al Inspectoratului Scolar al Municipiului Bucuresti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6019920" y="6380280"/>
            <a:ext cx="3047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o-RO" sz="2500" spc="-1" strike="noStrike">
                <a:solidFill>
                  <a:srgbClr val="5d6967"/>
                </a:solidFill>
                <a:latin typeface="Open Sans"/>
              </a:rPr>
              <a:t>Write, race, win!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Picture 11" descr="Logo Asociatia SS pentru Educatie_220.jpg"/>
          <p:cNvPicPr/>
          <p:nvPr/>
        </p:nvPicPr>
        <p:blipFill>
          <a:blip r:embed="rId2"/>
          <a:stretch/>
        </p:blipFill>
        <p:spPr>
          <a:xfrm>
            <a:off x="664380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Banner Orizontal Essay_Logo Asociatie_lowQ.png"/>
          <p:cNvPicPr/>
          <p:nvPr/>
        </p:nvPicPr>
        <p:blipFill>
          <a:blip r:embed="rId3"/>
          <a:stretch/>
        </p:blipFill>
        <p:spPr>
          <a:xfrm>
            <a:off x="285840" y="5067360"/>
            <a:ext cx="5276880" cy="1647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1"/>
          <p:cNvSpPr/>
          <p:nvPr/>
        </p:nvSpPr>
        <p:spPr>
          <a:xfrm>
            <a:off x="457200" y="1143000"/>
            <a:ext cx="4343400" cy="34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Organizat pe 2 categorii de varsta: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11-14 ani </a:t>
            </a:r>
            <a:r>
              <a:rPr b="0" lang="ro-RO" sz="1800" spc="-1" strike="noStrike">
                <a:solidFill>
                  <a:srgbClr val="000000"/>
                </a:solidFill>
                <a:latin typeface="Open Sans"/>
                <a:ea typeface="Open Sans"/>
              </a:rPr>
              <a:t>si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15-19 ani</a:t>
            </a:r>
            <a:r>
              <a:rPr b="0" lang="ro-RO" sz="1800" spc="-1" strike="noStrike">
                <a:solidFill>
                  <a:srgbClr val="000000"/>
                </a:solidFill>
                <a:latin typeface="Open Sans"/>
                <a:ea typeface="Open Sans"/>
              </a:rPr>
              <a:t>, </a:t>
            </a: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cu teme adecvate fiecarei grupe de varsta in par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Obiective</a:t>
            </a:r>
            <a:r>
              <a:rPr b="0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romovarea creativitatii ca parte a procesului de life-long lear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romovarea gandirii creative si a sensibilitatii emotiona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largirea accesului tinerilor la exprimare creativ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4952880" y="1752480"/>
            <a:ext cx="3886200" cy="23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 algn="just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Vrem ca acest concurs să fie organizat anual, devenind astfel o </a:t>
            </a:r>
            <a:r>
              <a:rPr b="0" i="1" lang="ro-RO" sz="1600" spc="-1" strike="noStrike" u="sng">
                <a:solidFill>
                  <a:srgbClr val="5d6967"/>
                </a:solidFill>
                <a:uFillTx/>
                <a:latin typeface="Open Sans"/>
                <a:ea typeface="Open Sans"/>
              </a:rPr>
              <a:t>tradiţie</a:t>
            </a:r>
            <a:r>
              <a:rPr b="0" i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. An de an, vom oferi tinerilor creativi oportunitatea de a-si folosi talentul si imaginatia, punandu-si in valoare potentialul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380880" y="212760"/>
            <a:ext cx="44960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3600" spc="-1" strike="noStrike">
                <a:solidFill>
                  <a:srgbClr val="70215f"/>
                </a:solidFill>
                <a:latin typeface="Open Sans"/>
                <a:ea typeface="Open Sans"/>
              </a:rPr>
              <a:t>Despre concur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4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353040" cy="251460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5"/>
          <p:cNvSpPr/>
          <p:nvPr/>
        </p:nvSpPr>
        <p:spPr>
          <a:xfrm>
            <a:off x="533520" y="4343400"/>
            <a:ext cx="4647960" cy="778680"/>
          </a:xfrm>
          <a:prstGeom prst="rect">
            <a:avLst/>
          </a:prstGeom>
          <a:noFill/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ro-RO" sz="1500" spc="-1" strike="noStrike">
                <a:solidFill>
                  <a:srgbClr val="5d6967"/>
                </a:solidFill>
                <a:latin typeface="Open Sans"/>
              </a:rPr>
              <a:t>Incercam sa iesim din sabloane, din testele grila pentru a-i incuraja pe copii si tineri sa gandeasca, sa inoveze, sa  creeze ... in limba lui Shakespeare!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550440" y="6411960"/>
            <a:ext cx="789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</a:rPr>
              <a:t>Participarea este gratuita si deschisa tuturor tinerilor din Romania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Picture 9" descr="Logo Asociatia SS pentru Educatie_220.jpg"/>
          <p:cNvPicPr/>
          <p:nvPr/>
        </p:nvPicPr>
        <p:blipFill>
          <a:blip r:embed="rId3"/>
          <a:stretch/>
        </p:blipFill>
        <p:spPr>
          <a:xfrm>
            <a:off x="6715080" y="142920"/>
            <a:ext cx="2068560" cy="10713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9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500040" y="5286240"/>
            <a:ext cx="3432240" cy="1071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1"/>
          <p:cNvSpPr/>
          <p:nvPr/>
        </p:nvSpPr>
        <p:spPr>
          <a:xfrm>
            <a:off x="380880" y="372960"/>
            <a:ext cx="81536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Essay Competition in Cifre</a:t>
            </a:r>
            <a:br>
              <a:rPr sz="3000"/>
            </a:b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2009 - 201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2"/>
          <p:cNvSpPr/>
          <p:nvPr/>
        </p:nvSpPr>
        <p:spPr>
          <a:xfrm>
            <a:off x="655560" y="1317600"/>
            <a:ext cx="739152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12 tineri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premiati cu scoli de vara la Cambridge, Oxfo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144 tineri finalisti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premiati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5d6967"/>
                </a:solidFill>
                <a:latin typeface="Open Sans"/>
                <a:ea typeface="Open Sans"/>
              </a:rPr>
              <a:t>Cursuri gratuite la Shakespeare Schoo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5d6967"/>
                </a:solidFill>
                <a:latin typeface="Open Sans"/>
                <a:ea typeface="Open Sans"/>
              </a:rPr>
              <a:t>Taxe de examen Cambridge oferite de British Counci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5d6967"/>
                </a:solidFill>
                <a:latin typeface="Open Sans"/>
                <a:ea typeface="Open Sans"/>
              </a:rPr>
              <a:t>Carti, dictionare et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Peste 13.500 eseuri inscrise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in cele 4 edit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Au participat tineri din </a:t>
            </a: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peste 350 de localitati din Romania: </a:t>
            </a:r>
            <a:r>
              <a:rPr b="0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 </a:t>
            </a:r>
            <a:r>
              <a:rPr b="0" lang="ro-RO" sz="1400" spc="-1" strike="noStrike">
                <a:solidFill>
                  <a:srgbClr val="70215f"/>
                </a:solidFill>
                <a:latin typeface="Open Sans"/>
                <a:ea typeface="Open Sans"/>
              </a:rPr>
              <a:t>Bucuresti, Cluj-Napoca, Craiova, Focsani, Galati ,Hateg, Iasi, Oradea, Pascani, Petrosani, Piatra Neamt, Pitesti, Ploiesti, Ramnicu Valcea, Roman, Rosiori de Vede, Sibiu, Sighetul Marmatiei, Suceava, Targoviste,Tecuci,Urzicen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3" name="Picture 5" descr="Logo Asociatia SS pentru Educatie_220.jpg"/>
          <p:cNvPicPr/>
          <p:nvPr/>
        </p:nvPicPr>
        <p:blipFill>
          <a:blip r:embed="rId2"/>
          <a:stretch/>
        </p:blipFill>
        <p:spPr>
          <a:xfrm>
            <a:off x="6718320" y="142920"/>
            <a:ext cx="2068560" cy="10713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5" descr="Banner Orizontal Essay_Logo Asociatie_lowQ.png"/>
          <p:cNvPicPr/>
          <p:nvPr/>
        </p:nvPicPr>
        <p:blipFill>
          <a:blip r:embed="rId3"/>
          <a:stretch/>
        </p:blipFill>
        <p:spPr>
          <a:xfrm>
            <a:off x="795240" y="4929120"/>
            <a:ext cx="5276880" cy="1647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1"/>
          <p:cNvSpPr/>
          <p:nvPr/>
        </p:nvSpPr>
        <p:spPr>
          <a:xfrm>
            <a:off x="380880" y="220680"/>
            <a:ext cx="41911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Povesti de Succes</a:t>
            </a:r>
            <a:br>
              <a:rPr sz="3000"/>
            </a:b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Essay Competi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 Box 2"/>
          <p:cNvSpPr/>
          <p:nvPr/>
        </p:nvSpPr>
        <p:spPr>
          <a:xfrm>
            <a:off x="380880" y="2590920"/>
            <a:ext cx="5715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“</a:t>
            </a:r>
            <a:r>
              <a:rPr b="1" i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Pot zice cu mana pe inima ca ESSAY COMPETITION mi-a schimbat atat viitorul cat si perspectiva mea asupra lumii.”  </a:t>
            </a:r>
            <a:r>
              <a:rPr b="0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Mircea Neic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Mircea Neicu 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este un tanar din Orsova care nu depasise niciodata granitele Romaniei  si caruia premiul de la Essay Competition i-a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deschis porti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 si i-a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schimbat drumul in viata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clasandu-se pe locul I a castigat o tabara de engleza la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Universitatea Cambrid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articiparea la tabara de vara i-a sporit increderea in fortele propri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a aplicat apoi la mai multe facultati din Marea Britanie si acum studiaza la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Lancaster Univers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Picture 4" descr=""/>
          <p:cNvPicPr/>
          <p:nvPr/>
        </p:nvPicPr>
        <p:blipFill>
          <a:blip r:embed="rId2"/>
          <a:stretch/>
        </p:blipFill>
        <p:spPr>
          <a:xfrm>
            <a:off x="6477120" y="3276720"/>
            <a:ext cx="2133360" cy="27432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6" descr="Logo Asociatia SS pentru Educatie_220.jpg"/>
          <p:cNvPicPr/>
          <p:nvPr/>
        </p:nvPicPr>
        <p:blipFill>
          <a:blip r:embed="rId3"/>
          <a:stretch/>
        </p:blipFill>
        <p:spPr>
          <a:xfrm>
            <a:off x="6643800" y="142920"/>
            <a:ext cx="2068560" cy="10713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6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428760" y="1214280"/>
            <a:ext cx="4214520" cy="13161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1"/>
          <p:cNvSpPr/>
          <p:nvPr/>
        </p:nvSpPr>
        <p:spPr>
          <a:xfrm>
            <a:off x="304920" y="76320"/>
            <a:ext cx="81532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400" spc="-1" strike="noStrike">
                <a:solidFill>
                  <a:srgbClr val="70215f"/>
                </a:solidFill>
                <a:latin typeface="Open Sans"/>
                <a:ea typeface="Open Sans"/>
              </a:rPr>
              <a:t>Prima editie (2009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 Box 2"/>
          <p:cNvSpPr/>
          <p:nvPr/>
        </p:nvSpPr>
        <p:spPr>
          <a:xfrm>
            <a:off x="304920" y="2286000"/>
            <a:ext cx="42670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 </a:t>
            </a: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mai 2009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, sub egida Anului European al Creativitatii si Inovatie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Peste 200 eseuri 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in limba engleza primite de la tineri din Capitala si din toata t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r>
              <a:rPr b="0" lang="ro-RO" sz="2400" spc="-1" strike="noStrike">
                <a:solidFill>
                  <a:srgbClr val="595959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4800600" y="2209680"/>
            <a:ext cx="41911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nationala 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(participanti de la Suceava la Corabia, din Maramures pana la Faurei, Buzau, Brasov, Cluj, Arad, Constanta, Craiova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Parteneri: 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British Council, Radio Romania Actualitati, Radio Itsy Bitsy, TVR Cultural, Studentie.r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6" descr="Logo Asociatia SS pentru Educatie_220.jpg"/>
          <p:cNvPicPr/>
          <p:nvPr/>
        </p:nvPicPr>
        <p:blipFill>
          <a:blip r:embed="rId2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6" descr="Banner Orizontal Essay_Logo Asociatie_lowQ.png"/>
          <p:cNvPicPr/>
          <p:nvPr/>
        </p:nvPicPr>
        <p:blipFill>
          <a:blip r:embed="rId3"/>
          <a:stretch/>
        </p:blipFill>
        <p:spPr>
          <a:xfrm>
            <a:off x="500040" y="857160"/>
            <a:ext cx="4357800" cy="13604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1"/>
          <p:cNvSpPr/>
          <p:nvPr/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A doua editie (2010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2"/>
          <p:cNvSpPr/>
          <p:nvPr/>
        </p:nvSpPr>
        <p:spPr>
          <a:xfrm>
            <a:off x="304920" y="2209680"/>
            <a:ext cx="4267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1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2100" spc="-1" strike="noStrike">
                <a:solidFill>
                  <a:srgbClr val="5d6967"/>
                </a:solidFill>
                <a:latin typeface="Open Sans"/>
                <a:ea typeface="Open Sans"/>
              </a:rPr>
              <a:t>martie 2010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100" spc="-1" strike="noStrike" u="sng">
                <a:solidFill>
                  <a:srgbClr val="70215f"/>
                </a:solidFill>
                <a:uFillTx/>
                <a:latin typeface="Open Sans"/>
                <a:ea typeface="Open Sans"/>
              </a:rPr>
              <a:t>3100 de eseuri </a:t>
            </a:r>
            <a:r>
              <a:rPr b="1" lang="ro-RO" sz="2100" spc="-1" strike="noStrike">
                <a:solidFill>
                  <a:srgbClr val="5d6967"/>
                </a:solidFill>
                <a:latin typeface="Open Sans"/>
                <a:ea typeface="Open Sans"/>
              </a:rPr>
              <a:t>in limba engleza primite de la tineri din intreaga tar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1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5d6967"/>
              </a:buClr>
              <a:buFont typeface="Open San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606060"/>
                </a:solidFill>
                <a:latin typeface="Open Sans"/>
                <a:ea typeface="Open Sans"/>
              </a:rPr>
              <a:t>Scoli de vara de limba engleza in UK – Cambridge si Oxford (in valoare de peste 1500 euro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17520" indent="-317520">
              <a:lnSpc>
                <a:spcPct val="100000"/>
              </a:lnSpc>
              <a:spcBef>
                <a:spcPts val="700"/>
              </a:spcBef>
              <a:buClr>
                <a:srgbClr val="5d6967"/>
              </a:buClr>
              <a:buFont typeface="Open San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606060"/>
                </a:solidFill>
                <a:latin typeface="Open Sans"/>
                <a:ea typeface="Open Sans"/>
              </a:rPr>
              <a:t>Taxe pentru examene Cambridge oferite de British Counci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5d6967"/>
              </a:buClr>
              <a:buFont typeface="Open San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606060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4648320" y="2209680"/>
            <a:ext cx="4267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</a:t>
            </a:r>
            <a:r>
              <a:rPr b="1" lang="ro-RO" sz="2200" spc="-1" strike="noStrike">
                <a:solidFill>
                  <a:srgbClr val="5d6967"/>
                </a:solidFill>
                <a:latin typeface="Open Sans"/>
                <a:ea typeface="Open Sans"/>
              </a:rPr>
              <a:t>nationala </a:t>
            </a:r>
            <a:r>
              <a:rPr b="0" lang="ro-RO" sz="2200" spc="-1" strike="noStrike">
                <a:solidFill>
                  <a:srgbClr val="323232"/>
                </a:solidFill>
                <a:latin typeface="Open Sans"/>
                <a:ea typeface="Open Sans"/>
              </a:rPr>
              <a:t>(participanti din </a:t>
            </a: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peste 350 de localitati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Sprijin: </a:t>
            </a:r>
            <a:r>
              <a:rPr b="0" lang="ro-RO" sz="2200" spc="-1" strike="noStrike">
                <a:solidFill>
                  <a:srgbClr val="323232"/>
                </a:solidFill>
                <a:latin typeface="Open Sans"/>
                <a:ea typeface="Open Sans"/>
              </a:rPr>
              <a:t>British Council, Inspectoratele scolare, asociatiile de profesor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Parteneri media</a:t>
            </a:r>
            <a:r>
              <a:rPr b="0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Picture 4" descr=""/>
          <p:cNvPicPr/>
          <p:nvPr/>
        </p:nvPicPr>
        <p:blipFill>
          <a:blip r:embed="rId2"/>
          <a:stretch/>
        </p:blipFill>
        <p:spPr>
          <a:xfrm>
            <a:off x="5018040" y="6121440"/>
            <a:ext cx="1306440" cy="4316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"/>
          <p:cNvPicPr/>
          <p:nvPr/>
        </p:nvPicPr>
        <p:blipFill>
          <a:blip r:embed="rId3"/>
          <a:stretch/>
        </p:blipFill>
        <p:spPr>
          <a:xfrm>
            <a:off x="6496200" y="6076800"/>
            <a:ext cx="1504800" cy="4762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6" descr=""/>
          <p:cNvPicPr/>
          <p:nvPr/>
        </p:nvPicPr>
        <p:blipFill>
          <a:blip r:embed="rId4"/>
          <a:stretch/>
        </p:blipFill>
        <p:spPr>
          <a:xfrm>
            <a:off x="4854600" y="4896000"/>
            <a:ext cx="1174680" cy="5140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7" descr=""/>
          <p:cNvPicPr/>
          <p:nvPr/>
        </p:nvPicPr>
        <p:blipFill>
          <a:blip r:embed="rId5"/>
          <a:stretch/>
        </p:blipFill>
        <p:spPr>
          <a:xfrm>
            <a:off x="6095880" y="5029200"/>
            <a:ext cx="990720" cy="38088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8" descr=""/>
          <p:cNvPicPr/>
          <p:nvPr/>
        </p:nvPicPr>
        <p:blipFill>
          <a:blip r:embed="rId6"/>
          <a:stretch/>
        </p:blipFill>
        <p:spPr>
          <a:xfrm>
            <a:off x="7162920" y="4933800"/>
            <a:ext cx="1730160" cy="43848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9" descr=""/>
          <p:cNvPicPr/>
          <p:nvPr/>
        </p:nvPicPr>
        <p:blipFill>
          <a:blip r:embed="rId7"/>
          <a:stretch/>
        </p:blipFill>
        <p:spPr>
          <a:xfrm>
            <a:off x="5029200" y="5495760"/>
            <a:ext cx="1247760" cy="52416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0" descr=""/>
          <p:cNvPicPr/>
          <p:nvPr/>
        </p:nvPicPr>
        <p:blipFill>
          <a:blip r:embed="rId8"/>
          <a:stretch/>
        </p:blipFill>
        <p:spPr>
          <a:xfrm>
            <a:off x="6400800" y="5562720"/>
            <a:ext cx="1219320" cy="3808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1" descr=""/>
          <p:cNvPicPr/>
          <p:nvPr/>
        </p:nvPicPr>
        <p:blipFill>
          <a:blip r:embed="rId9"/>
          <a:stretch/>
        </p:blipFill>
        <p:spPr>
          <a:xfrm>
            <a:off x="7696080" y="5572080"/>
            <a:ext cx="1054080" cy="3715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4" descr="Logo Asociatia SS pentru Educatie_220.jpg"/>
          <p:cNvPicPr/>
          <p:nvPr/>
        </p:nvPicPr>
        <p:blipFill>
          <a:blip r:embed="rId10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4" descr="Banner Orizontal Essay_Logo Asociatie_lowQ.png"/>
          <p:cNvPicPr/>
          <p:nvPr/>
        </p:nvPicPr>
        <p:blipFill>
          <a:blip r:embed="rId11"/>
          <a:stretch/>
        </p:blipFill>
        <p:spPr>
          <a:xfrm>
            <a:off x="285840" y="785880"/>
            <a:ext cx="4214880" cy="1315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1"/>
          <p:cNvSpPr/>
          <p:nvPr/>
        </p:nvSpPr>
        <p:spPr>
          <a:xfrm>
            <a:off x="304920" y="-7632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A treia editie (201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152280" y="2286000"/>
            <a:ext cx="3733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februarie 2011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 u="sng">
                <a:solidFill>
                  <a:srgbClr val="70215f"/>
                </a:solidFill>
                <a:uFillTx/>
                <a:latin typeface="Open Sans"/>
                <a:ea typeface="Open Sans"/>
              </a:rPr>
              <a:t>5111 de eseuri </a:t>
            </a: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in limba engleza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primite de la tineri din intreaga tara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buClr>
                <a:srgbClr val="5d6967"/>
              </a:buClr>
              <a:buFont typeface="Open Sans"/>
              <a:buChar char="-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606060"/>
                </a:solidFill>
                <a:latin typeface="Open Sans"/>
                <a:ea typeface="Open Sans"/>
              </a:rPr>
              <a:t>4 scoli de vara de limba engleza in UK: Cambridge si Oxford (in valoare de peste 1500 euro)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buClr>
                <a:srgbClr val="5d6967"/>
              </a:buClr>
              <a:buFont typeface="Open Sans"/>
              <a:buChar char="-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606060"/>
                </a:solidFill>
                <a:latin typeface="Open Sans"/>
                <a:ea typeface="Open Sans"/>
              </a:rPr>
              <a:t>Taxe pentru examene Cambridge oferite de British Counci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buClr>
                <a:srgbClr val="5d6967"/>
              </a:buClr>
              <a:buFont typeface="Open Sans"/>
              <a:buChar char="-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606060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Courier New"/>
              <a:buChar char="o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nationala 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(participanti din </a:t>
            </a: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peste 350 de localitati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0" name="Picture 4" descr=""/>
          <p:cNvPicPr/>
          <p:nvPr/>
        </p:nvPicPr>
        <p:blipFill>
          <a:blip r:embed="rId2"/>
          <a:stretch/>
        </p:blipFill>
        <p:spPr>
          <a:xfrm>
            <a:off x="3960720" y="1981080"/>
            <a:ext cx="4954680" cy="487692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6" descr="Logo Asociatia SS pentru Educatie_220.jpg"/>
          <p:cNvPicPr/>
          <p:nvPr/>
        </p:nvPicPr>
        <p:blipFill>
          <a:blip r:embed="rId3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6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428760" y="777960"/>
            <a:ext cx="4143240" cy="12938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1"/>
          <p:cNvSpPr/>
          <p:nvPr/>
        </p:nvSpPr>
        <p:spPr>
          <a:xfrm>
            <a:off x="304920" y="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A patra editie (201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152280" y="2209680"/>
            <a:ext cx="3810240" cy="44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februarie 20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 u="sng">
                <a:solidFill>
                  <a:srgbClr val="70215f"/>
                </a:solidFill>
                <a:uFillTx/>
                <a:latin typeface="Open Sans"/>
                <a:ea typeface="Open Sans"/>
              </a:rPr>
              <a:t>Peste 4100 de eseuri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in limba engleza primite de la tineri din intreaga ta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Arial"/>
              <a:buChar char="•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scoli de vara de limba engleza in UK: </a:t>
            </a:r>
            <a:r>
              <a:rPr b="1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Cambridge, Oxford, Clifton College, Harrow House </a:t>
            </a: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(in valoare de peste 1500 lire fiecare)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Arial"/>
              <a:buChar char="•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Taxe pentru examene Cambridge oferite de British Counci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Arial"/>
              <a:buChar char="•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Courier New"/>
              <a:buChar char="o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nationala</a:t>
            </a:r>
            <a:r>
              <a:rPr b="1" lang="ro-RO" sz="1600" spc="-1" strike="noStrike">
                <a:solidFill>
                  <a:srgbClr val="323232"/>
                </a:solidFill>
                <a:latin typeface="Open Sans"/>
                <a:ea typeface="Open Sans"/>
              </a:rPr>
              <a:t> </a:t>
            </a:r>
            <a:r>
              <a:rPr b="0" lang="ro-RO" sz="1600" spc="-1" strike="noStrike">
                <a:solidFill>
                  <a:srgbClr val="323232"/>
                </a:solidFill>
                <a:latin typeface="Open Sans"/>
                <a:ea typeface="Open Sans"/>
              </a:rPr>
              <a:t>(participanti din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este 350 de localitat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5" name="Picture 4" descr=""/>
          <p:cNvPicPr/>
          <p:nvPr/>
        </p:nvPicPr>
        <p:blipFill>
          <a:blip r:embed="rId2"/>
          <a:stretch/>
        </p:blipFill>
        <p:spPr>
          <a:xfrm>
            <a:off x="3962520" y="2039760"/>
            <a:ext cx="4952880" cy="43610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6" descr="Logo Asociatia SS pentru Educatie_220.jpg"/>
          <p:cNvPicPr/>
          <p:nvPr/>
        </p:nvPicPr>
        <p:blipFill>
          <a:blip r:embed="rId3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6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357120" y="857160"/>
            <a:ext cx="3889440" cy="12146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1"/>
          <p:cNvSpPr/>
          <p:nvPr/>
        </p:nvSpPr>
        <p:spPr>
          <a:xfrm>
            <a:off x="304920" y="-7632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Parteneri 2013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Picture 4" descr="Logo Asociatia SS pentru Educatie_220.jpg"/>
          <p:cNvPicPr/>
          <p:nvPr/>
        </p:nvPicPr>
        <p:blipFill>
          <a:blip r:embed="rId2"/>
          <a:stretch/>
        </p:blipFill>
        <p:spPr>
          <a:xfrm>
            <a:off x="6789600" y="142920"/>
            <a:ext cx="2068560" cy="1071360"/>
          </a:xfrm>
          <a:prstGeom prst="rect">
            <a:avLst/>
          </a:prstGeom>
          <a:ln w="0">
            <a:noFill/>
          </a:ln>
        </p:spPr>
      </p:pic>
      <p:grpSp>
        <p:nvGrpSpPr>
          <p:cNvPr id="590" name="TextBox 5"/>
          <p:cNvGrpSpPr/>
          <p:nvPr/>
        </p:nvGrpSpPr>
        <p:grpSpPr>
          <a:xfrm>
            <a:off x="208080" y="1066680"/>
            <a:ext cx="6583320" cy="365400"/>
            <a:chOff x="208080" y="1066680"/>
            <a:chExt cx="6583320" cy="365400"/>
          </a:xfrm>
        </p:grpSpPr>
        <p:pic>
          <p:nvPicPr>
            <p:cNvPr id="591" name="TextBox 5" descr=""/>
            <p:cNvPicPr/>
            <p:nvPr/>
          </p:nvPicPr>
          <p:blipFill>
            <a:blip r:embed="rId3"/>
            <a:stretch/>
          </p:blipFill>
          <p:spPr>
            <a:xfrm>
              <a:off x="208080" y="1066680"/>
              <a:ext cx="658332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214200" y="1071720"/>
              <a:ext cx="65725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o-RO" sz="1700" spc="-1" strike="noStrike">
                  <a:solidFill>
                    <a:srgbClr val="70215f"/>
                  </a:solidFill>
                  <a:latin typeface="Open Sans"/>
                  <a:ea typeface="Open Sans"/>
                </a:rPr>
                <a:t>Parteneri Educationali &amp; Sponsori Essay Competition 2013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93" name="Picture 6" descr="harrow.jpg"/>
          <p:cNvPicPr/>
          <p:nvPr/>
        </p:nvPicPr>
        <p:blipFill>
          <a:blip r:embed="rId4"/>
          <a:stretch/>
        </p:blipFill>
        <p:spPr>
          <a:xfrm>
            <a:off x="357120" y="1571760"/>
            <a:ext cx="1343160" cy="13572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8" descr="british council_2.jpg"/>
          <p:cNvPicPr/>
          <p:nvPr/>
        </p:nvPicPr>
        <p:blipFill>
          <a:blip r:embed="rId5"/>
          <a:stretch/>
        </p:blipFill>
        <p:spPr>
          <a:xfrm>
            <a:off x="1657440" y="1571760"/>
            <a:ext cx="1842840" cy="8650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9" descr="fischer.jpg"/>
          <p:cNvPicPr/>
          <p:nvPr/>
        </p:nvPicPr>
        <p:blipFill>
          <a:blip r:embed="rId6"/>
          <a:stretch/>
        </p:blipFill>
        <p:spPr>
          <a:xfrm>
            <a:off x="3500280" y="1643040"/>
            <a:ext cx="1738440" cy="71424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0" descr="carturesti.jpg"/>
          <p:cNvPicPr/>
          <p:nvPr/>
        </p:nvPicPr>
        <p:blipFill>
          <a:blip r:embed="rId7"/>
          <a:stretch/>
        </p:blipFill>
        <p:spPr>
          <a:xfrm>
            <a:off x="5416560" y="1500120"/>
            <a:ext cx="1512720" cy="85716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1" descr="editura humanitas.png"/>
          <p:cNvPicPr/>
          <p:nvPr/>
        </p:nvPicPr>
        <p:blipFill>
          <a:blip r:embed="rId8"/>
          <a:stretch/>
        </p:blipFill>
        <p:spPr>
          <a:xfrm>
            <a:off x="357120" y="3143160"/>
            <a:ext cx="2143080" cy="3826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2" descr="fnapip_logo_smaller_200.png"/>
          <p:cNvPicPr/>
          <p:nvPr/>
        </p:nvPicPr>
        <p:blipFill>
          <a:blip r:embed="rId9"/>
          <a:stretch/>
        </p:blipFill>
        <p:spPr>
          <a:xfrm>
            <a:off x="5929200" y="2571840"/>
            <a:ext cx="1198800" cy="11034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3" descr="simaco.jpg"/>
          <p:cNvPicPr/>
          <p:nvPr/>
        </p:nvPicPr>
        <p:blipFill>
          <a:blip r:embed="rId10"/>
          <a:stretch/>
        </p:blipFill>
        <p:spPr>
          <a:xfrm>
            <a:off x="4071960" y="2852640"/>
            <a:ext cx="1714320" cy="647640"/>
          </a:xfrm>
          <a:prstGeom prst="rect">
            <a:avLst/>
          </a:prstGeom>
          <a:ln w="0">
            <a:noFill/>
          </a:ln>
        </p:spPr>
      </p:pic>
      <p:grpSp>
        <p:nvGrpSpPr>
          <p:cNvPr id="600" name="TextBox 14"/>
          <p:cNvGrpSpPr/>
          <p:nvPr/>
        </p:nvGrpSpPr>
        <p:grpSpPr>
          <a:xfrm>
            <a:off x="281160" y="3786120"/>
            <a:ext cx="6583320" cy="365040"/>
            <a:chOff x="281160" y="3786120"/>
            <a:chExt cx="6583320" cy="365040"/>
          </a:xfrm>
        </p:grpSpPr>
        <p:pic>
          <p:nvPicPr>
            <p:cNvPr id="601" name="TextBox 14" descr=""/>
            <p:cNvPicPr/>
            <p:nvPr/>
          </p:nvPicPr>
          <p:blipFill>
            <a:blip r:embed="rId11"/>
            <a:stretch/>
          </p:blipFill>
          <p:spPr>
            <a:xfrm>
              <a:off x="281160" y="3786120"/>
              <a:ext cx="658332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285840" y="3789360"/>
              <a:ext cx="65721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o-RO" sz="1700" spc="-1" strike="noStrike">
                  <a:solidFill>
                    <a:srgbClr val="70215f"/>
                  </a:solidFill>
                  <a:latin typeface="Open Sans"/>
                  <a:ea typeface="Open Sans"/>
                </a:rPr>
                <a:t>Parteneri Media Essay Competition 2013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03" name="Picture 15" descr="Logo Learning About.png"/>
          <p:cNvPicPr/>
          <p:nvPr/>
        </p:nvPicPr>
        <p:blipFill>
          <a:blip r:embed="rId12"/>
          <a:stretch/>
        </p:blipFill>
        <p:spPr>
          <a:xfrm>
            <a:off x="7286760" y="2786040"/>
            <a:ext cx="1500120" cy="4795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6" descr="Logo ISMB.png"/>
          <p:cNvPicPr/>
          <p:nvPr/>
        </p:nvPicPr>
        <p:blipFill>
          <a:blip r:embed="rId13"/>
          <a:stretch/>
        </p:blipFill>
        <p:spPr>
          <a:xfrm>
            <a:off x="7000920" y="1523880"/>
            <a:ext cx="1571760" cy="111924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5" descr="Logo KissFM lowQ.png"/>
          <p:cNvPicPr/>
          <p:nvPr/>
        </p:nvPicPr>
        <p:blipFill>
          <a:blip r:embed="rId14"/>
          <a:stretch/>
        </p:blipFill>
        <p:spPr>
          <a:xfrm>
            <a:off x="357120" y="4357800"/>
            <a:ext cx="870120" cy="71424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6" descr="logo Digi24.png"/>
          <p:cNvPicPr/>
          <p:nvPr/>
        </p:nvPicPr>
        <p:blipFill>
          <a:blip r:embed="rId15"/>
          <a:stretch/>
        </p:blipFill>
        <p:spPr>
          <a:xfrm>
            <a:off x="1428840" y="4286160"/>
            <a:ext cx="857160" cy="8384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7" descr="Logo ItsyBitsy.png"/>
          <p:cNvPicPr/>
          <p:nvPr/>
        </p:nvPicPr>
        <p:blipFill>
          <a:blip r:embed="rId16"/>
          <a:stretch/>
        </p:blipFill>
        <p:spPr>
          <a:xfrm>
            <a:off x="2357280" y="4286160"/>
            <a:ext cx="1571760" cy="7239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8" descr="Adevărul-logo.jpg"/>
          <p:cNvPicPr/>
          <p:nvPr/>
        </p:nvPicPr>
        <p:blipFill>
          <a:blip r:embed="rId17"/>
          <a:stretch/>
        </p:blipFill>
        <p:spPr>
          <a:xfrm>
            <a:off x="4071960" y="4500720"/>
            <a:ext cx="1608120" cy="4284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9" descr="Logo Bravo_png.png"/>
          <p:cNvPicPr/>
          <p:nvPr/>
        </p:nvPicPr>
        <p:blipFill>
          <a:blip r:embed="rId18"/>
          <a:stretch/>
        </p:blipFill>
        <p:spPr>
          <a:xfrm>
            <a:off x="5715000" y="4484520"/>
            <a:ext cx="1643040" cy="47484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21" descr="LOGO RRC ALB MARE_220px.jpg"/>
          <p:cNvPicPr/>
          <p:nvPr/>
        </p:nvPicPr>
        <p:blipFill>
          <a:blip r:embed="rId19"/>
          <a:stretch/>
        </p:blipFill>
        <p:spPr>
          <a:xfrm>
            <a:off x="311040" y="5286240"/>
            <a:ext cx="1332000" cy="7146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22" descr="logo-romaniapozitia 2010.jpg"/>
          <p:cNvPicPr/>
          <p:nvPr/>
        </p:nvPicPr>
        <p:blipFill>
          <a:blip r:embed="rId20"/>
          <a:stretch/>
        </p:blipFill>
        <p:spPr>
          <a:xfrm>
            <a:off x="1643040" y="5316480"/>
            <a:ext cx="1500120" cy="6127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3" descr="sigla-mediafax_220.jpg"/>
          <p:cNvPicPr/>
          <p:nvPr/>
        </p:nvPicPr>
        <p:blipFill>
          <a:blip r:embed="rId21"/>
          <a:stretch/>
        </p:blipFill>
        <p:spPr>
          <a:xfrm>
            <a:off x="3214800" y="5357880"/>
            <a:ext cx="1571400" cy="4284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24" descr="logo.png.png"/>
          <p:cNvPicPr/>
          <p:nvPr/>
        </p:nvPicPr>
        <p:blipFill>
          <a:blip r:embed="rId22"/>
          <a:stretch/>
        </p:blipFill>
        <p:spPr>
          <a:xfrm>
            <a:off x="4929120" y="5357880"/>
            <a:ext cx="1643040" cy="3934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25" descr="teen press.png"/>
          <p:cNvPicPr/>
          <p:nvPr/>
        </p:nvPicPr>
        <p:blipFill>
          <a:blip r:embed="rId23"/>
          <a:stretch/>
        </p:blipFill>
        <p:spPr>
          <a:xfrm>
            <a:off x="6715080" y="5214960"/>
            <a:ext cx="1143000" cy="5526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27" descr="calificativ.png"/>
          <p:cNvPicPr/>
          <p:nvPr/>
        </p:nvPicPr>
        <p:blipFill>
          <a:blip r:embed="rId24"/>
          <a:stretch/>
        </p:blipFill>
        <p:spPr>
          <a:xfrm>
            <a:off x="2428920" y="6072120"/>
            <a:ext cx="1515960" cy="2858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28" descr="Logo AmDoar18Ani_lowQ.png"/>
          <p:cNvPicPr/>
          <p:nvPr/>
        </p:nvPicPr>
        <p:blipFill>
          <a:blip r:embed="rId25"/>
          <a:stretch/>
        </p:blipFill>
        <p:spPr>
          <a:xfrm>
            <a:off x="428760" y="6215040"/>
            <a:ext cx="1785960" cy="32868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30" descr="Logo Mamica Urbana.png"/>
          <p:cNvPicPr/>
          <p:nvPr/>
        </p:nvPicPr>
        <p:blipFill>
          <a:blip r:embed="rId26"/>
          <a:stretch/>
        </p:blipFill>
        <p:spPr>
          <a:xfrm>
            <a:off x="4143240" y="5929200"/>
            <a:ext cx="857520" cy="8114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31" descr="Logo_Copilul_small.jpg"/>
          <p:cNvPicPr/>
          <p:nvPr/>
        </p:nvPicPr>
        <p:blipFill>
          <a:blip r:embed="rId27"/>
          <a:stretch/>
        </p:blipFill>
        <p:spPr>
          <a:xfrm>
            <a:off x="5072040" y="5929200"/>
            <a:ext cx="1182600" cy="69876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2" descr="Logo 7Seri_lowQ.png"/>
          <p:cNvPicPr/>
          <p:nvPr/>
        </p:nvPicPr>
        <p:blipFill>
          <a:blip r:embed="rId28"/>
          <a:stretch/>
        </p:blipFill>
        <p:spPr>
          <a:xfrm>
            <a:off x="6286680" y="6215040"/>
            <a:ext cx="1500120" cy="2142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33" descr="logo PRwave pe alb_220.tif"/>
          <p:cNvPicPr/>
          <p:nvPr/>
        </p:nvPicPr>
        <p:blipFill>
          <a:blip r:embed="rId29"/>
          <a:stretch/>
        </p:blipFill>
        <p:spPr>
          <a:xfrm>
            <a:off x="7448400" y="4572000"/>
            <a:ext cx="1266840" cy="3571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35" descr="logo_young initiative_150.jpg"/>
          <p:cNvPicPr/>
          <p:nvPr/>
        </p:nvPicPr>
        <p:blipFill>
          <a:blip r:embed="rId30"/>
          <a:stretch/>
        </p:blipFill>
        <p:spPr>
          <a:xfrm>
            <a:off x="7929720" y="5143680"/>
            <a:ext cx="974520" cy="6426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36" descr="Logo_Bucharest-Nightlife_small.jpg"/>
          <p:cNvPicPr/>
          <p:nvPr/>
        </p:nvPicPr>
        <p:blipFill>
          <a:blip r:embed="rId31"/>
          <a:stretch/>
        </p:blipFill>
        <p:spPr>
          <a:xfrm>
            <a:off x="2571840" y="6429240"/>
            <a:ext cx="1230120" cy="2714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38" descr="Logo Blogul Mamei Incepatoare_lowQ.png"/>
          <p:cNvPicPr/>
          <p:nvPr/>
        </p:nvPicPr>
        <p:blipFill>
          <a:blip r:embed="rId32"/>
          <a:stretch/>
        </p:blipFill>
        <p:spPr>
          <a:xfrm>
            <a:off x="7929720" y="5919840"/>
            <a:ext cx="857160" cy="58716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33" descr="logo Transylvania College.png"/>
          <p:cNvPicPr/>
          <p:nvPr/>
        </p:nvPicPr>
        <p:blipFill>
          <a:blip r:embed="rId33"/>
          <a:stretch/>
        </p:blipFill>
        <p:spPr>
          <a:xfrm>
            <a:off x="2714760" y="2571840"/>
            <a:ext cx="1071360" cy="10461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4T08:09:06Z</dcterms:created>
  <dc:creator>Shakespeare</dc:creator>
  <dc:description/>
  <dc:language>en-US</dc:language>
  <cp:lastModifiedBy>Shakespeare</cp:lastModifiedBy>
  <dcterms:modified xsi:type="dcterms:W3CDTF">2013-02-04T14:48:13Z</dcterms:modified>
  <cp:revision>89</cp:revision>
  <dc:subject/>
  <dc:title>Totul despre examenele Trinity si Cambrid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524811033</vt:lpwstr>
  </property>
</Properties>
</file>